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1F8A0-87A6-41DE-B7D3-F9817AD8AF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Partneři se společně s příjemcem podílejí na realizaci projektu a to v těch aktivitách, ve kterých je k tomu zavazuje </a:t>
            </a:r>
            <a:r>
              <a:rPr b="1" lang="cs-CZ" sz="1500" spc="-1" strike="noStrike">
                <a:solidFill>
                  <a:srgbClr val="000000"/>
                </a:solidFill>
                <a:latin typeface="Calibri"/>
              </a:rPr>
              <a:t>Partnerská smlouva</a:t>
            </a:r>
            <a:r>
              <a:rPr b="0" lang="cs-CZ" sz="1500" spc="-1" strike="noStrike">
                <a:solidFill>
                  <a:srgbClr val="000000"/>
                </a:solidFill>
                <a:latin typeface="Calibri"/>
              </a:rPr>
              <a:t>.</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Obsah PS je přitom velice důležitý, protože konečnou odpovědnost poskytovateli podpory nese příjemce. 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Smluvní vztah mezi příjemcem a jeho partnery není založen na poskytování služeb a nesmí být v rozporu s právními předpisy ČR!</a:t>
            </a:r>
            <a:endParaRPr b="0" lang="en-US" sz="15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500" spc="-1" strike="noStrike">
                <a:solidFill>
                  <a:srgbClr val="000000"/>
                </a:solidFill>
                <a:latin typeface="Calibri"/>
              </a:rPr>
              <a:t> </a:t>
            </a:r>
            <a:endParaRPr b="0" lang="en-US" sz="1500" spc="-1" strike="noStrike">
              <a:solidFill>
                <a:srgbClr val="000000"/>
              </a:solidFill>
              <a:latin typeface="Calibri"/>
            </a:endParaRPr>
          </a:p>
          <a:p>
            <a:pPr indent="0">
              <a:lnSpc>
                <a:spcPct val="8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9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27524-52FC-4C2E-9084-F364DEDFD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finančního partnerství může být příjemcem podpory pouze jeden subjekt. Tímto subjektem je žadatel, který předkládal projektovou žádost. Žadatel-příjemce dále vystupuje jako subjekt odpovědný za řízení projektu ve vztahu k partnerům a zodpovídá za rozdělení obdržených prostředků mezi partnery na základě smluvních aktů, schváleného rozpočtu projektu a dokladovaných skutečných výdajů.</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 předkládá příjemci žádost o proplacení svých výdajů (např. ve formě soupisky účetních dokladů s doloženými kopiemi účetních dokladů, případně výpisem z účtu). 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9ECCA-0568-4659-8E0B-74A50617C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partnera s FP předkládá partner příjemci žádost o proplacení svých způsobilých výdajů. 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bo by mělo být v PS upravené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dočerpané finanční prostředky je partner povinen vrátit na projektový účet příjemce nejpozději do odeslání závěrečné monitorovací zprávy s žádostí o platb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45FB7-D037-4A4B-AF34-5188FD2A2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17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a:t>
            </a:r>
            <a:r>
              <a:rPr b="0" lang="cs-CZ" sz="1700" spc="-1" strike="noStrike">
                <a:solidFill>
                  <a:srgbClr val="000000"/>
                </a:solidFill>
                <a:latin typeface="Calibri"/>
              </a:rPr>
              <a:t>Zařízení a spotřební materiál nakoupený z projektu nelze po realizaci převádět partnerům sídlícím mimo cílový region v případě, že v rámci udržitelnosti tento partner nezaváže podporovat cílovou skupinu daného cílového regionu.</a:t>
            </a:r>
            <a:endParaRPr b="0" lang="en-US" sz="17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a:t>
            </a:r>
            <a:r>
              <a:rPr b="0" lang="cs-CZ" sz="1700" spc="-1" strike="noStrike">
                <a:solidFill>
                  <a:srgbClr val="000000"/>
                </a:solidFill>
                <a:latin typeface="Calibri"/>
              </a:rPr>
              <a:t>Kopie převodních listin či darovacích smluv</a:t>
            </a:r>
            <a:r>
              <a:rPr b="0" lang="cs-CZ" sz="700" spc="-1" strike="noStrike">
                <a:solidFill>
                  <a:srgbClr val="000000"/>
                </a:solidFill>
                <a:latin typeface="Calibri"/>
              </a:rPr>
              <a:t> </a:t>
            </a:r>
            <a:r>
              <a:rPr b="0" lang="cs-CZ" sz="1700" spc="-1" strike="noStrike">
                <a:solidFill>
                  <a:srgbClr val="000000"/>
                </a:solidFill>
                <a:latin typeface="Calibri"/>
              </a:rPr>
              <a:t>předkládá příjemce</a:t>
            </a:r>
            <a:r>
              <a:rPr b="0" lang="cs-CZ" sz="700" spc="-1" strike="noStrike">
                <a:solidFill>
                  <a:srgbClr val="000000"/>
                </a:solidFill>
                <a:latin typeface="Calibri"/>
              </a:rPr>
              <a:t> </a:t>
            </a:r>
            <a:r>
              <a:rPr b="0" lang="cs-CZ" sz="1700" spc="-1" strike="noStrike">
                <a:solidFill>
                  <a:srgbClr val="000000"/>
                </a:solidFill>
                <a:latin typeface="Calibri"/>
              </a:rPr>
              <a:t>se závěrečnou MZ</a:t>
            </a:r>
            <a:endParaRPr b="0" lang="en-US" sz="1700" spc="-1" strike="noStrike">
              <a:solidFill>
                <a:srgbClr val="000000"/>
              </a:solidFill>
              <a:latin typeface="Calibri"/>
            </a:endParaRPr>
          </a:p>
          <a:p>
            <a:pPr lvl="1" marL="415800" indent="0">
              <a:lnSpc>
                <a:spcPct val="80000"/>
              </a:lnSpc>
              <a:spcAft>
                <a:spcPts val="103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700" spc="-1" strike="noStrike">
                <a:solidFill>
                  <a:srgbClr val="000000"/>
                </a:solidFill>
                <a:latin typeface="Calibri"/>
              </a:rPr>
              <a:t>b) Partner s finančním příspěvkem </a:t>
            </a:r>
            <a:endParaRPr b="0" lang="en-US" sz="17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700" spc="-1" strike="noStrike">
                <a:solidFill>
                  <a:srgbClr val="000000"/>
                </a:solidFill>
                <a:latin typeface="Calibri"/>
              </a:rPr>
              <a:t>- nakupované zařízení a spotřební materiál je ihned v jeho vlastnictví</a:t>
            </a:r>
            <a:endParaRPr b="0" lang="en-US" sz="1700" spc="-1" strike="noStrike">
              <a:solidFill>
                <a:srgbClr val="000000"/>
              </a:solidFill>
              <a:latin typeface="Calibri"/>
            </a:endParaRPr>
          </a:p>
          <a:p>
            <a:pPr lvl="1" marL="415800" indent="0">
              <a:lnSpc>
                <a:spcPct val="80000"/>
              </a:lnSpc>
              <a:spcAft>
                <a:spcPts val="103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0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B13EA-673F-4BE1-8241-A2DA1673C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léhají schválení – mohou a nemusí být schváleny – vyjadřuje se gestor apod. </a:t>
            </a:r>
            <a:endParaRPr b="0" lang="en-US" sz="1200" spc="-1" strike="noStrike">
              <a:solidFill>
                <a:srgbClr val="000000"/>
              </a:solidFill>
              <a:latin typeface="Calibri"/>
            </a:endParaRPr>
          </a:p>
        </p:txBody>
      </p:sp>
      <p:sp>
        <p:nvSpPr>
          <p:cNvPr id="5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8F1B5-BF05-4045-AF41-BA71E31AE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odstatné změny týkající se změny </a:t>
            </a:r>
            <a:r>
              <a:rPr b="1" lang="cs-CZ" sz="1200" spc="-1" strike="noStrike">
                <a:solidFill>
                  <a:srgbClr val="000000"/>
                </a:solidFill>
                <a:latin typeface="Calibri"/>
              </a:rPr>
              <a:t>kontaktních údajů příjemce</a:t>
            </a:r>
            <a:r>
              <a:rPr b="0" lang="cs-CZ" sz="1200" spc="-1" strike="noStrike">
                <a:solidFill>
                  <a:srgbClr val="000000"/>
                </a:solidFill>
                <a:latin typeface="Calibri"/>
              </a:rPr>
              <a:t>,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auditora </a:t>
            </a:r>
            <a:r>
              <a:rPr b="0" lang="cs-CZ" sz="1200" spc="-1" strike="noStrike">
                <a:solidFill>
                  <a:srgbClr val="000000"/>
                </a:solidFill>
                <a:latin typeface="Calibri"/>
              </a:rPr>
              <a:t>– pokud je povinností příjemce projektu nechat provést aud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harmonogramu realizace </a:t>
            </a:r>
            <a:r>
              <a:rPr b="0" lang="cs-CZ" sz="1200" spc="-1" strike="noStrike">
                <a:solidFill>
                  <a:srgbClr val="000000"/>
                </a:solidFill>
                <a:latin typeface="Calibri"/>
              </a:rPr>
              <a:t>(posun KA) - tyto změny musí být opět zdůvodněny v MZ a doloženy novým přepracovaným harmonogramem (příloha č. 10 MZ) v elektronické i listinné podobě. Zde není možné v rámci změny v harmonogramu změnit celkovou dobu realizace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názvu subjektu příjemce </a:t>
            </a:r>
            <a:r>
              <a:rPr b="0" lang="cs-CZ" sz="1200" spc="-1" strike="noStrike">
                <a:solidFill>
                  <a:srgbClr val="000000"/>
                </a:solidFill>
                <a:latin typeface="Calibri"/>
              </a:rPr>
              <a:t>– příjemce musí o této změně dopředu informovat mšmt. Poskytovatel dotace zahájí proces úpravy nebo doplnění právního aktu o poskytnutí dotace v režimu podstatných změ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statutárního zástupce </a:t>
            </a:r>
            <a:r>
              <a:rPr b="0" lang="cs-CZ" sz="1200" spc="-1" strike="noStrike">
                <a:solidFill>
                  <a:srgbClr val="000000"/>
                </a:solidFill>
                <a:latin typeface="Calibri"/>
              </a:rPr>
              <a:t>– příjemce je povinen do 5 pracovních dnů zaslat oznámení o změně statutárního zástupce spolu s podklady, které tuto změnu prokazují. Ověřenou kopii jmenovací listiny zaslat okamžitě po změně.</a:t>
            </a:r>
            <a:endParaRPr b="0" lang="en-US" sz="1200" spc="-1" strike="noStrike">
              <a:solidFill>
                <a:srgbClr val="000000"/>
              </a:solidFill>
              <a:latin typeface="Calibri"/>
            </a:endParaRPr>
          </a:p>
        </p:txBody>
      </p:sp>
      <p:sp>
        <p:nvSpPr>
          <p:cNvPr id="5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50888-1A0F-41AA-A4D3-C183998C3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statná změna je změna, která mění obsah nebo charakter schváleného projektu a zakládá povinnost upravit nebo doplnit právní akt o poskytnutí dotace. Tato změna tedy nesmí být provedena před jejím schválením a vydáním dodatku k právnímu aktu. Podstatné změny musí být schváleny všemi partnery příjemce, pokud se jich dotýkají, ještě před podáním příslušných návrhů změn projektu, a to v písemné formě s podpisem statutárního zástupce nebo statutárních orgánů partnerů. V případě, že takového souhlasu nebylo dosaženo, musí příjemce tuto informaci uvést při předkládání žádosti o podstatnou změnu.</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dstatné změny projektu nesmí příjemce provést před jejich odsouhlasením poskytovatele podpory. Odsouhlasení změn nelze provést se zpětnou platností. Jestliže příjemce provedete tyto změny před odsouhlasením ze strany poskytovatele, tyto změny nebudou uznány jako platné a příjemce se jejich realizace vystavuje riziku případného odnětí finanční podpory. </a:t>
            </a:r>
            <a:endParaRPr b="0" lang="en-US" sz="1200" spc="-1" strike="noStrike">
              <a:solidFill>
                <a:srgbClr val="000000"/>
              </a:solidFill>
              <a:latin typeface="Calibri"/>
            </a:endParaRPr>
          </a:p>
          <a:p>
            <a:pPr lvl="1" marL="415800" indent="0">
              <a:lnSpc>
                <a:spcPct val="80000"/>
              </a:lnSpc>
              <a:spcAft>
                <a:spcPts val="10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Calibri"/>
              </a:rPr>
              <a:t>Lhůta 30 pracovních dní na posouzení ze strany MŠMT je kvůli tomu, že Žádost posuzují i pracovníci mimo odbor CERA</a:t>
            </a:r>
            <a:endParaRPr b="0" lang="en-US" sz="1000" spc="-1" strike="noStrike">
              <a:solidFill>
                <a:srgbClr val="000000"/>
              </a:solidFill>
              <a:latin typeface="Calibri"/>
            </a:endParaRPr>
          </a:p>
        </p:txBody>
      </p:sp>
      <p:sp>
        <p:nvSpPr>
          <p:cNvPr id="5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8A284-5990-453F-ACE5-7A4C97203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příjemce projektu </a:t>
            </a:r>
            <a:r>
              <a:rPr b="0" lang="cs-CZ" sz="1200" spc="-1" strike="noStrike">
                <a:solidFill>
                  <a:srgbClr val="000000"/>
                </a:solidFill>
                <a:latin typeface="Calibri"/>
              </a:rPr>
              <a:t>– ve výjimečných a dostatečně odůvodněných případech je možné projekt realizovat novým příjemcem, který nebyl uveden v projektové žádo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týkající se monitorovacích indikátorů </a:t>
            </a:r>
            <a:r>
              <a:rPr b="0" lang="cs-CZ" sz="1200" spc="-1" strike="noStrike">
                <a:solidFill>
                  <a:srgbClr val="000000"/>
                </a:solidFill>
                <a:latin typeface="Calibri"/>
              </a:rPr>
              <a:t>– překročení výše stanovených indikátorů není považováno za podstatnou změnu projektu, pokud nesouvisí s podstatnou změnou rozpočtu. Zrušení povinných indikátorů není mož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začátku nebo ukončení projektu </a:t>
            </a:r>
            <a:r>
              <a:rPr b="0" lang="cs-CZ" sz="1200" spc="-1" strike="noStrike">
                <a:solidFill>
                  <a:srgbClr val="000000"/>
                </a:solidFill>
                <a:latin typeface="Calibri"/>
              </a:rPr>
              <a:t>– v případě prodloužení doby realizace projektu není možné navýšit schválené finanční prostředk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 při změně začátku realizace je nutné dodat nový přepracovaný harmonogram (příloha č. 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Změna projektového účtu </a:t>
            </a:r>
            <a:r>
              <a:rPr b="0" lang="cs-CZ" sz="1200" spc="-1" strike="noStrike">
                <a:solidFill>
                  <a:srgbClr val="000000"/>
                </a:solidFill>
                <a:latin typeface="Calibri"/>
              </a:rPr>
              <a:t>– záměr změnit bankovní účet je příjemce povinen  předem oznámit poskytovateli podpory. Příjemce zašle do 5 pracovních dnů od realizace změny poskytovateli podpory oznámení o provedené změně účtu, jehož součástí musí být ověřená kopie smlouvy o zřízení nového účtu nebo formulář finanční identifikace potvrzený banko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Odstoupení partnera </a:t>
            </a:r>
            <a:r>
              <a:rPr b="0" lang="cs-CZ" sz="1200" spc="-1" strike="noStrike">
                <a:solidFill>
                  <a:srgbClr val="000000"/>
                </a:solidFill>
                <a:latin typeface="Calibri"/>
              </a:rPr>
              <a:t>v průběhu realizace projektu nebo </a:t>
            </a:r>
            <a:r>
              <a:rPr b="1" lang="cs-CZ" sz="1200" spc="-1" strike="noStrike">
                <a:solidFill>
                  <a:srgbClr val="000000"/>
                </a:solidFill>
                <a:latin typeface="Calibri"/>
              </a:rPr>
              <a:t>zapojení nového partnera </a:t>
            </a:r>
            <a:r>
              <a:rPr b="0" lang="cs-CZ" sz="1200" spc="-1" strike="noStrike">
                <a:solidFill>
                  <a:srgbClr val="000000"/>
                </a:solidFill>
                <a:latin typeface="Calibri"/>
              </a:rPr>
              <a:t>do projektu -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79044-97A2-4DC4-94BD-113F5FE5E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rocentní limity pro jednotlivé kapito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3 – Zařízení a vybavení související s realizací projektu: nesmí překročit 25%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4 – Místní kancelář: nesmí překročit 8%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5 – Nákup služeb souvisejících s realizací projektu: nesmí překročit 49%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apitola 7 – Přímá podpora: nesmí překročit 20% celkových způsobilých výdajů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25D91-97A1-4AD6-A7FA-15C1BF6D8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lnSpc>
                <a:spcPct val="90000"/>
              </a:lnSpc>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lze provádět nepodstatné změny pouze pokud jsou zapříčiněny změnou schváleného pracovněprávního vztahu (např. z DPP na DPČ),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 případě slučování úvazku lze slučovat jen úvazky se stejnými schválenými jednotkovými cenami nebo sloučený úvazek musí respektovat nejnižší schválenou jednotkovou mzdu ze slučovaných úvazků</a:t>
            </a:r>
            <a:endParaRPr b="0" lang="en-US" sz="1200" spc="-1" strike="noStrike">
              <a:solidFill>
                <a:srgbClr val="000000"/>
              </a:solidFill>
              <a:latin typeface="Calibri"/>
            </a:endParaRPr>
          </a:p>
          <a:p>
            <a:pPr>
              <a:lnSpc>
                <a:spcPct val="9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Uhrazení příplatků za práci o sobotách a nedělíc a svátcích, které jsou uznatelné (opodstatněné) a jejich úhradou dojde k překročení rozpočtových výdajů položek této kapitoly</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v rámci kap. Osobní náklady se nedají provádět nepodstatné změny, pokud je příjemce organizace s limity mzdové regulace. Všechny změny v této kapitole jsou u organizací se závaznými mzdovými limity považovány za </a:t>
            </a:r>
            <a:r>
              <a:rPr b="1" lang="cs-CZ" sz="1200" spc="-1" strike="noStrike">
                <a:solidFill>
                  <a:srgbClr val="000000"/>
                </a:solidFill>
                <a:latin typeface="Calibri"/>
              </a:rPr>
              <a:t>změny podstatné</a:t>
            </a:r>
            <a:r>
              <a:rPr b="0" lang="cs-CZ"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Položky v rozpočtu, které spadají do této kapitoly nelze navyšovat v rámci provádění nepodstatných změn, pokud tato změna bude mít vliv na výši investičních a neinvestičních prostředků rozpočtu či bude znamenat celkové navýšení částky této kapitoly pro projekt</a:t>
            </a:r>
            <a:endParaRPr b="0" lang="en-US" sz="1200" spc="-1" strike="noStrike">
              <a:solidFill>
                <a:srgbClr val="000000"/>
              </a:solidFill>
              <a:latin typeface="Calibri"/>
            </a:endParaRPr>
          </a:p>
        </p:txBody>
      </p:sp>
      <p:sp>
        <p:nvSpPr>
          <p:cNvPr id="5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3BA3D-E69C-4A4E-A365-3A57056CD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Žádost o podstatnou změnu </a:t>
            </a:r>
            <a:r>
              <a:rPr b="0" lang="cs-CZ" sz="1200" spc="-1" strike="noStrike">
                <a:solidFill>
                  <a:srgbClr val="000000"/>
                </a:solidFill>
                <a:latin typeface="Calibri"/>
              </a:rPr>
              <a:t>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Navýšení položek Křížového financování</a:t>
            </a:r>
            <a:r>
              <a:rPr b="0" lang="cs-CZ" sz="1200" spc="-1" strike="noStrike">
                <a:solidFill>
                  <a:srgbClr val="000000"/>
                </a:solidFill>
                <a:latin typeface="Calibri"/>
              </a:rPr>
              <a:t>, pokud tato změna bude mít vliv na výši investičních a neinvestičních prostředků rozpočtu či bude znamenat celkové navýšení částky křížového financování v rámci projekt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5EEB3-F65C-443F-A6AA-6E2B35FBF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Partnerství v rámci OP VK </a:t>
            </a:r>
            <a:r>
              <a:rPr b="0" lang="cs-CZ" sz="1200" spc="-1" strike="noStrike">
                <a:solidFill>
                  <a:srgbClr val="000000"/>
                </a:solidFill>
                <a:latin typeface="Calibri"/>
              </a:rPr>
              <a:t>je smluvní vztah mezi dvěma nebo více subjekty. Partneři se společně podílejí na přípravě a realizaci projektu ve fázi zpracování projektové žádosti, ve fázi jeho realizace i ve fázi ukončení projektu. Partneři se podílejí rovněž na zajištění udržitelnosti projektu, jsou-li k tomu zavázáni partnerskou smlouvou.</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čast partnerů v projektu musí být opodstatněná a nezastupitelná. Jejich přínos pro realizaci projektu musí spočívat v zajištění aktivit, bez jejichž realizace by nebylo dosaženo cílů a monitorovacích indikátorů projektu a zároveň je příjemce nemůže zajistit sám vlastními zdroji a silami. Výběr projektů k realizaci je založen na posouzení projektu jako celku včetně opodstatněnosti partnera, tudíž veškeré změny týkající se odstoupení stávajícího nebo přistoupení nového partnera jsou změny podstatné.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 </a:t>
            </a:r>
            <a:r>
              <a:rPr b="1" lang="cs-CZ" sz="1200" spc="-1" strike="noStrike">
                <a:solidFill>
                  <a:srgbClr val="000000"/>
                </a:solidFill>
                <a:latin typeface="Calibri"/>
              </a:rPr>
              <a:t>nesmí</a:t>
            </a:r>
            <a:r>
              <a:rPr b="0" lang="cs-CZ" sz="1200" spc="-1" strike="noStrike">
                <a:solidFill>
                  <a:srgbClr val="000000"/>
                </a:solidFill>
                <a:latin typeface="Calibri"/>
              </a:rPr>
              <a:t> být založeno pouze na zabezpečení </a:t>
            </a:r>
            <a:r>
              <a:rPr b="1" lang="cs-CZ" sz="1200" spc="-1" strike="noStrike">
                <a:solidFill>
                  <a:srgbClr val="000000"/>
                </a:solidFill>
                <a:latin typeface="Calibri"/>
              </a:rPr>
              <a:t>běžné administrace projektu </a:t>
            </a:r>
            <a:r>
              <a:rPr b="0" lang="cs-CZ" sz="1200" spc="-1" strike="noStrike">
                <a:solidFill>
                  <a:srgbClr val="000000"/>
                </a:solidFill>
                <a:latin typeface="Calibri"/>
              </a:rPr>
              <a:t>(zejména zpracování monitorovacích zpráv, finanční řízení projektu, účetnictví, administrativní agenda apod.), dále nesmí být založeno na </a:t>
            </a:r>
            <a:r>
              <a:rPr b="1" lang="cs-CZ" sz="1200" spc="-1" strike="noStrike">
                <a:solidFill>
                  <a:srgbClr val="000000"/>
                </a:solidFill>
                <a:latin typeface="Calibri"/>
              </a:rPr>
              <a:t>poskytování běžných služeb </a:t>
            </a:r>
            <a:r>
              <a:rPr b="0" lang="cs-CZ" sz="1200" spc="-1" strike="noStrike">
                <a:solidFill>
                  <a:srgbClr val="000000"/>
                </a:solidFill>
                <a:latin typeface="Calibri"/>
              </a:rPr>
              <a:t>(publicita projektu, IT služby, účetní služby, audit apod.) nebo na </a:t>
            </a:r>
            <a:r>
              <a:rPr b="1" lang="cs-CZ" sz="1200" spc="-1" strike="noStrike">
                <a:solidFill>
                  <a:srgbClr val="000000"/>
                </a:solidFill>
                <a:latin typeface="Calibri"/>
              </a:rPr>
              <a:t>dodávkách služeb</a:t>
            </a:r>
            <a:r>
              <a:rPr b="0" lang="cs-CZ"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em není dodavatel, který je v rámci projektu poskytovatelem služeb či dodavatelem zařízení a vybavení na komerční bázi. Partner nesmí být dodavatelem běžně komerčně poskytovaných dodávek, služeb či stavebních prací (např. dodávka papíru, vytištění propagačních tiskovin, provedení stavebních úprav prostor potřebných pro realizaci projektu apo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200" spc="-1" strike="noStrike">
                <a:solidFill>
                  <a:srgbClr val="000000"/>
                </a:solidFill>
                <a:latin typeface="Calibri"/>
              </a:rPr>
              <a:t>Se zaměstnancem partnera může příjemce uzavřít pracovně právní vztah</a:t>
            </a:r>
            <a:r>
              <a:rPr b="0" lang="cs-CZ" sz="1200" spc="-1" strike="noStrike">
                <a:solidFill>
                  <a:srgbClr val="000000"/>
                </a:solidFill>
                <a:latin typeface="Calibri"/>
              </a:rPr>
              <a:t>. Náplň činnosti tohoto pracovně právního vztahu však nesmí být shodná s činností partnera v projektu. V případě, že příjemce uzavře pracovně právní vztah se zaměstnancem partnera na totožnou činnost, jakou má partner v projektu, nemůže pak partner stejnou činnost vykazovat v rámci partnerství. Pokud by tato totožná činnost byla vykazována jak partnerem tak i další osobou, jednalo by se o porušení pravidel partnerství v OP VK a výdaje s tím spojené budou prohlášeny za nezpůsobil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9D630-420A-4E53-A95F-E6B1AB389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8A906-B548-45B9-8106-4421E06BF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9DF7-CDAD-4B73-926C-1B536487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09A16E-E70A-4FCD-9830-320BD4709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DA596-7E7D-4521-A7A8-D0A74C7A5D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9BE64F-DF7C-4629-8206-2BBDBEA4AE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E9795-6A0F-463B-AFCA-66F4C3391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0C341-B6C2-4DCB-9C62-68B9FE01B8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0C840-A325-4817-99AC-2D97D6E44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9142C7-71A5-473A-BDBF-D42C5FBF9E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171D5D-4F46-45CC-8957-2848AD90BD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AAEED9-C513-48B2-9590-6BC3352F2C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6291952-3B1D-4156-8981-804D146B7B3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CEF29-AB57-46E1-9481-05FBC149A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94289C-2F8C-472B-8F79-5A62C6CC47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8ED1FF-E8A1-488A-B868-E9EFF45E36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4D527F-F878-45B5-B7DA-C5115A6DE3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B33298-CDF1-46E4-B05D-B168E4E1E0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26D79B-DD3C-4682-8A8E-0635D0EAD2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33348-5C89-41EE-93AC-6460603312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E7C8DB-7A61-4959-858A-F35E17A17C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BD52F2-648F-4817-BC6D-48A6CDDF5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8E5636-90C1-489A-99A9-49092D6465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A0E155-E866-4FE1-BD5C-91BB0BDA38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0F08E-BAE7-41B7-B2C9-84E5884EF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1AC9DE-95EE-458E-A75D-E1C0995B02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049EFED-66F6-494F-B7CE-BFFE22AA17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EF0337-7382-4BE6-B919-15C98B295A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B011CA-F62A-4243-8F82-2469A5BBD0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21A27F-278C-4288-8407-124B346593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88162F-9612-49A5-8AE0-DDABC25ED4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CEA4D5-AAA0-4C0B-8AD5-02B9B9CA30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B124F-268A-4BC3-B917-69BC43EC26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A4FA22-563B-41EF-A378-BBED4AF1CD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DB6242-B6F6-400E-A4AA-CCD5DA62D1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108F8-B645-4E48-994B-9512F759E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4668E8-EB16-4EA8-B831-54D0924EBA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E631B1-366C-4BBB-8033-A649E34880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C1A925-DBB4-48F2-909E-145E0BF42C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D607439-86D4-4FDE-B63B-57941347D4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08DC47-8137-434C-8A21-26A4A354FB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BB5F47-6830-4334-B01E-34F9B82A58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5C50EE-5444-4E77-ABBD-AEACD40DA5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44CC10-CF1D-4259-85BE-23B3661356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183394-F1E6-4B8F-8205-453D442E45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AB9C48-4F88-4BC0-915E-DA160B4AB3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A4A58-792F-459F-A2BB-547B8C5B0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B19B36-759E-4C8A-B5F4-205E699541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2B285-FB1F-4111-8A79-D4FEBEB548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1B7239-CCC1-479B-A8F2-1874C1A076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A03EC9B-C04D-4252-9653-626E9751C9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707B46-7657-4776-9DA3-D47633E34F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2DFB0-71BB-43D4-AE1E-4E2FADBB1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A9CB2-057A-44D6-B47B-06EAEF467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EA217-B9BC-4CCE-8E46-9CFD72C70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78E56-8B66-4BD0-900D-09C733BE5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5F1C7-6F01-4AC2-9D16-1C5F9538E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D495-5871-4B2B-B680-AD8823CB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D872A-D100-4DB1-92EF-0799A02C7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52EA2-FF5B-46D3-A679-0D41C1A62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94ABD-74E9-4B40-9E7E-A390C9E64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B0185-468B-42F8-A9C2-2DEA77A0B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A4131-7D0B-48E3-9E3E-07C4B33C4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91C6B-10B3-45EF-98BE-67C192777D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159E6-E3F5-4229-B198-012C608B3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946D9-A2E9-4A95-A399-A6230ACA6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96D593-2A2A-43F6-ACC7-B120492F4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92AC0-8C23-44DC-A7E3-F0CCD0FF82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6DAD4-482D-45EA-A91C-B8AB54252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234EC-82C2-441B-9B30-BE5E3ED83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11BA6-96D3-4E95-85FA-E97360E60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145F1-7CBF-450F-8425-4A59D4E16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0ED92-7517-4CA7-9CBF-4C864B0DF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22484B-E397-4934-8D67-2A3233D52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62D42-F3F0-4C84-AD15-83DE9CC2BF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D06D96-09C5-4E0B-9405-7D8B84044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DC25CC-7E14-4BD4-AC74-6D93CB03E8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0EAFC-25B1-412A-9BB3-AF9E733C71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D410F-160E-4514-916D-E0DDB2F4F4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4409-B345-469D-B81C-B27B681B9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09978-8E71-4542-823B-13DAFF9FF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2122B-3851-40FE-B503-2BF56B5B7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EA3EC-3CA6-4186-9F24-0567D6CB9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3DB06-896C-4EA2-A3DE-EC4AA526B8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E118C-6AB9-4DBA-A3CF-2E1BCA76E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F755A-04DA-4CCA-95F0-1E02CC183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78CBAE-698D-4347-80FF-432823A24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CC1B4-65D3-4715-B96A-E875E91327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6F6DB-4E95-4960-BBF1-8FB9105CE6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61D3DD-4837-443E-841B-247928C6B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AF55-CE66-4E4A-BB12-674D3182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6FFE80-D842-4436-A33A-7D41E6EF3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73850-7A8A-48EB-9D11-FC658E492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B1752-F0C7-439C-9963-422D7B829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A2740A-5C72-4541-90FD-9F939DC374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69DF5-E3E5-460D-B5AC-82B4C2630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B9A41-E3AE-44CC-8458-0E585D63A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5F1C2-3D42-484D-A27A-97DB1ED32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D48FE0-F2A1-4064-B143-0925B583BC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34926B-62D1-46D2-8A2B-DF17D60F1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3C176-A65C-4CB2-893E-879D083982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43FD-FC61-47CF-BBB3-00D03B8FE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88AA20-E993-4AB5-BEEE-AF7F89B5F0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72C402-B1FA-4135-ADB3-4BC5E0B1A9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4705E-0E35-46A0-9725-5D2CC47280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1B528-FE96-40CC-A239-1580DE4598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41F01-DC2E-4506-AC13-DBF4472F5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03EA2-0858-4911-A714-5F680BA61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58DB23-31D6-4337-BEDB-6E050C23A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45FDF-8657-4492-AAE6-EAD3AD8DB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44E00-F513-4F41-BF81-C0ADF9031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9859F2-C1F2-4DC7-AE2B-2923CD2F4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AF6D-BDE9-4CD6-8142-34DD9CD40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A2379A-426B-4D5A-8DDA-208EFBB2B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175172-707C-414B-AFE9-AE1D40A16B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47BB1-16C4-4DC5-9DB0-9EB5499018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814416-2EB4-4932-A70F-E3F1B3575F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31973-5BD2-4310-B1A1-847452D1E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04D9B-827B-486D-B44F-F27F1CEC3B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539B4-CE85-4505-8B09-323D9680E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314A48-4903-4278-B39B-C0F38B719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435B66-07B9-4726-8C5A-91E5495C64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9B202-269A-416E-B602-4C3D489A1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FA9C1-F70F-403C-83DC-A9750786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A8516-2045-4199-ABCC-597765861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5B71F-7477-43EA-B9F6-30E6E5A68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FE4686-3A7A-4800-BD5C-F3AF80067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666D4-702B-497F-B4ED-103DA9584A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62C95-F74C-413F-B81E-EDE257474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348E30-0EA2-46D6-ACBB-48AFC0045F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F9679-D5F3-4A20-8D8E-F1CCB5618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BE8AC-5C8F-4856-ADEF-B5070A9FAC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11F9F-BF01-4622-ADB7-FC74F84E75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32D12B-CD1A-442E-BA2C-2D2421FFD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286C-0446-4A16-949B-0155C07B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60517-B901-4DAB-8D76-08E6AFFFCF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73365-881E-4EB0-8E44-6D6890FF1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9F5B0-7CC5-4626-AB66-6A88621EA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6D2FF-21BF-4E9C-8D03-5A35613A5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794C87-CD73-4C91-B6C0-9446B047F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A27800-C794-43E3-93F4-45F7CE1493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E324DA-0EA2-457F-8883-11ED23E90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D84097-B61A-4A01-BBBE-58CE06F0D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AEFE08-EF0C-47FA-B545-56EB6083EC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B8EC8B-38D3-4A8F-8978-B8ECEAA43C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7DC52-4567-4762-A0B3-4C3775C1904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8D998-74E6-408A-A52E-F1FF54E51819}" type="slidenum">
              <a:rPr b="0" lang="en-US" sz="1200" spc="-1" strike="noStrike">
                <a:solidFill>
                  <a:srgbClr val="898989"/>
                </a:solidFill>
                <a:latin typeface="Calibri"/>
              </a:rPr>
              <a:t>&lt;number&gt;</a:t>
            </a:fld>
            <a:fld id="{30F3B9FF-7477-4C7D-B27E-8BB3FD0EE7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93568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93568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F62764-86F1-42D6-889C-86C544880EDD}"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97D4E-AA22-4A42-98B5-62484BA660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93568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6F118-B39B-4CEF-99D5-1B5D738A1B3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68FD0-3965-46D3-AB66-C1157EA76C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93568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D0323-249F-448E-B827-9B1AC6B739E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7C14B-87D1-4C9E-B004-5CFDF4C065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93568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6466F-FD99-44E2-9B8A-BBA1D0589EC3}"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E6A79-778A-41FC-84C7-F96E7533E0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93568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3EB1B-BF5B-459D-B4DC-439EBEA4851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24F22-0F65-47EA-934E-73CC27685F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93568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DEC14-4477-40F3-B876-1263A451118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554F7-2DE4-43BC-85A3-CDA4937330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93568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487DD-7417-47DE-BC76-A39BD7E7F2B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39753-297E-4C59-AAD0-5B036243EB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93568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394A1-076C-4373-A292-CC700521104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37511-F4CA-4CBD-8B38-5DAB8F17F7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93568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54C56-FC57-4904-BD33-F70E2B9F2C3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7B002-E38A-4A69-A9A8-726C6824BD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93568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2FB8BB-780C-4B2C-8EEA-035437BA05F2}"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89248-C987-4B5D-88A8-79EC4A9B29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93568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3B83F-3438-4B94-AF6A-7D2BC932234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6E0F3-6714-427C-897C-7F066BD6C4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844360"/>
            <a:ext cx="7772400" cy="102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ravidla projektového řízení</a:t>
            </a:r>
            <a:endParaRPr b="1" lang="en-US" sz="3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vinnosti příjemce při partnerství</a:t>
            </a:r>
            <a:endParaRPr b="1" lang="en-US" sz="3200" spc="-1" strike="noStrike">
              <a:solidFill>
                <a:srgbClr val="000000"/>
              </a:solidFill>
              <a:latin typeface="Helvetica CE"/>
            </a:endParaRPr>
          </a:p>
        </p:txBody>
      </p:sp>
      <p:sp>
        <p:nvSpPr>
          <p:cNvPr id="549" name=""/>
          <p:cNvSpPr txBox="1"/>
          <p:nvPr/>
        </p:nvSpPr>
        <p:spPr>
          <a:xfrm>
            <a:off x="1329840" y="2342880"/>
            <a:ext cx="6458040" cy="30020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uvádí své partnery již v žádosti o finanční podporu včetně rolí, podílů na aktivitách projektu a v případě finančního partnerství také podílu na prostředcích z obdržené podpor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je povinen za každého partnera předložit Prohlášení o partners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eškeré smluvní vztahy mezi příjemcem a partnerem jsou vymezeny ve Smlouvě o partners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skytovatel nenese odpovědnost za obsah této smlouvy</a:t>
            </a:r>
            <a:endParaRPr b="0" lang="en-US" sz="1800" spc="-1" strike="noStrike">
              <a:solidFill>
                <a:srgbClr val="000000"/>
              </a:solidFill>
              <a:latin typeface="Helvetica CE"/>
            </a:endParaRPr>
          </a:p>
        </p:txBody>
      </p:sp>
      <p:sp>
        <p:nvSpPr>
          <p:cNvPr id="55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38C98-7F6C-46E6-BD4F-BE57DAD1C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Typy partnerství</a:t>
            </a:r>
            <a:endParaRPr b="1" lang="en-US" sz="3200" spc="-1" strike="noStrike">
              <a:solidFill>
                <a:srgbClr val="000000"/>
              </a:solidFill>
              <a:latin typeface="Helvetica CE"/>
            </a:endParaRPr>
          </a:p>
        </p:txBody>
      </p:sp>
      <p:sp>
        <p:nvSpPr>
          <p:cNvPr id="552" name=""/>
          <p:cNvSpPr txBox="1"/>
          <p:nvPr/>
        </p:nvSpPr>
        <p:spPr>
          <a:xfrm>
            <a:off x="1329840" y="2157120"/>
            <a:ext cx="6458040" cy="3414600"/>
          </a:xfrm>
          <a:prstGeom prst="rect">
            <a:avLst/>
          </a:prstGeom>
          <a:noFill/>
          <a:ln w="0">
            <a:noFill/>
          </a:ln>
        </p:spPr>
        <p:txBody>
          <a:bodyPr anchor="t">
            <a:normAutofit/>
          </a:bodyPr>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39800"/>
                </a:solidFill>
                <a:latin typeface="Helvetica CE"/>
              </a:rPr>
              <a:t>a) Partner s finančním příspěvkem</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     </a:t>
            </a:r>
            <a:r>
              <a:rPr b="0" lang="cs-CZ" sz="1800" spc="-1" strike="noStrike">
                <a:solidFill>
                  <a:srgbClr val="000000"/>
                </a:solidFill>
                <a:latin typeface="Helvetica CE"/>
              </a:rPr>
              <a:t> </a:t>
            </a:r>
            <a:r>
              <a:rPr b="0" lang="cs-CZ" sz="1800" spc="-1" strike="noStrike">
                <a:solidFill>
                  <a:srgbClr val="000000"/>
                </a:solidFill>
                <a:latin typeface="Helvetica CE"/>
              </a:rPr>
              <a:t>- Tento typ partnera přijímá prostřednictvím příjemce část finanční podpory na realizaci věcných projektových aktivit</a:t>
            </a:r>
            <a:endParaRPr b="0" lang="en-US" sz="1800" spc="-1" strike="noStrike">
              <a:solidFill>
                <a:srgbClr val="000000"/>
              </a:solidFill>
              <a:latin typeface="Helvetica CE"/>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39800"/>
                </a:solidFill>
                <a:latin typeface="Helvetica CE"/>
              </a:rPr>
              <a:t>b) Partner bez finančního příspěvku</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ffc000"/>
                </a:solidFill>
                <a:latin typeface="Helvetica CE"/>
              </a:rPr>
              <a:t>     </a:t>
            </a:r>
            <a:r>
              <a:rPr b="0" lang="cs-CZ" sz="1800" spc="-1" strike="noStrike">
                <a:solidFill>
                  <a:srgbClr val="000000"/>
                </a:solidFill>
                <a:latin typeface="Helvetica CE"/>
              </a:rPr>
              <a:t>- Tento typ partnera se podílí na realizaci věcných aktivit projektu (konzultace, odborná garance), ale není mu poskytován žádný finanční příspěvek za účast na realizaci projektu</a:t>
            </a:r>
            <a:endParaRPr b="0" lang="en-US" sz="1800" spc="-1" strike="noStrike">
              <a:solidFill>
                <a:srgbClr val="000000"/>
              </a:solidFill>
              <a:latin typeface="Helvetica CE"/>
            </a:endParaRPr>
          </a:p>
        </p:txBody>
      </p:sp>
      <p:sp>
        <p:nvSpPr>
          <p:cNvPr id="55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44382-71B4-412B-B820-B1DE1807B6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artner s finančním příspěvkem </a:t>
            </a:r>
            <a:endParaRPr b="1" lang="en-US" sz="3200" spc="-1" strike="noStrike">
              <a:solidFill>
                <a:srgbClr val="000000"/>
              </a:solidFill>
              <a:latin typeface="Helvetica CE"/>
            </a:endParaRPr>
          </a:p>
        </p:txBody>
      </p:sp>
      <p:sp>
        <p:nvSpPr>
          <p:cNvPr id="555" name=""/>
          <p:cNvSpPr txBox="1"/>
          <p:nvPr/>
        </p:nvSpPr>
        <p:spPr>
          <a:xfrm>
            <a:off x="1329840" y="2171880"/>
            <a:ext cx="6458040" cy="3186000"/>
          </a:xfrm>
          <a:prstGeom prst="rect">
            <a:avLst/>
          </a:prstGeom>
          <a:noFill/>
          <a:ln w="0">
            <a:noFill/>
          </a:ln>
        </p:spPr>
        <p:txBody>
          <a:bodyPr anchor="t">
            <a:normAutofit/>
          </a:bodyPr>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amostatný projektový bankovní účet/podúčet - podmínka u ex-ante</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ýjimka při proplácení výdajů partnerovi ex-p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podpory = žadatel předkládá výdaje za sebe i všechny partnery s finančním příspěvkem</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Žádost o proplacení výdajů předkládá partner příjemci</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artner má při dokladování a vyúčtování vůči poskytovateli podpory stejné povinnosti jako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87EC1-90FA-4400-B6F3-301A33DAF4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329840" y="1042560"/>
            <a:ext cx="6458040" cy="90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cs-CZ" sz="3200" spc="-1" strike="noStrike">
                <a:solidFill>
                  <a:srgbClr val="f39800"/>
                </a:solidFill>
                <a:latin typeface="Helvetica CE"/>
              </a:rPr>
              <a:t>Úhrada mezi partnerem a příjemcem</a:t>
            </a:r>
            <a:endParaRPr b="1" lang="en-US" sz="3200" spc="-1" strike="noStrike">
              <a:solidFill>
                <a:srgbClr val="000000"/>
              </a:solidFill>
              <a:latin typeface="Helvetica CE"/>
            </a:endParaRPr>
          </a:p>
        </p:txBody>
      </p:sp>
      <p:sp>
        <p:nvSpPr>
          <p:cNvPr id="558" name=""/>
          <p:cNvSpPr txBox="1"/>
          <p:nvPr/>
        </p:nvSpPr>
        <p:spPr>
          <a:xfrm>
            <a:off x="1329840" y="2599920"/>
            <a:ext cx="6458040" cy="2745000"/>
          </a:xfrm>
          <a:prstGeom prst="rect">
            <a:avLst/>
          </a:prstGeom>
          <a:noFill/>
          <a:ln w="0">
            <a:noFill/>
          </a:ln>
        </p:spPr>
        <p:txBody>
          <a:bodyPr anchor="t">
            <a:normAutofit fontScale="99000"/>
          </a:bodyPr>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poskytne partnerovi část zálohové platby dle smlouvy</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artner vyúčtovává způsobilé výdaje za dané MO, příjemce zahrnuje do MZ</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kud partner</a:t>
            </a:r>
            <a:r>
              <a:rPr b="1" lang="cs-CZ" sz="1800" spc="-1" strike="noStrike">
                <a:solidFill>
                  <a:srgbClr val="000000"/>
                </a:solidFill>
                <a:latin typeface="Helvetica CE"/>
              </a:rPr>
              <a:t> </a:t>
            </a:r>
            <a:r>
              <a:rPr b="0" lang="cs-CZ" sz="1800" spc="-1" strike="noStrike">
                <a:solidFill>
                  <a:srgbClr val="000000"/>
                </a:solidFill>
                <a:latin typeface="Helvetica CE"/>
              </a:rPr>
              <a:t>vyúčtovává způsobilé výdaje nad částku poskytnuté zálohové platby, doporučuje se j provést jejich proplacení až po schválení poskytovatelem podpory</a:t>
            </a:r>
            <a:endParaRPr b="0" lang="en-US" sz="1800" spc="-1" strike="noStrike">
              <a:solidFill>
                <a:srgbClr val="000000"/>
              </a:solidFill>
              <a:latin typeface="Helvetica CE"/>
            </a:endParaRPr>
          </a:p>
          <a:p>
            <a:pPr marL="339480" indent="-339480" algn="just">
              <a:spcAft>
                <a:spcPts val="12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vinnost partnera vrátit nedočerpané finanční prostředky</a:t>
            </a:r>
            <a:endParaRPr b="0" lang="en-US" sz="1800" spc="-1" strike="noStrike">
              <a:solidFill>
                <a:srgbClr val="000000"/>
              </a:solidFill>
              <a:latin typeface="Helvetica CE"/>
            </a:endParaRPr>
          </a:p>
          <a:p>
            <a:pPr marL="339480" indent="-3394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BBC87-369F-4874-8876-EE7DBB8909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29840" y="1260360"/>
            <a:ext cx="6458040" cy="91152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12c"/>
                </a:solidFill>
                <a:latin typeface="Helvetica CE"/>
              </a:rPr>
              <a:t>Vypořádání</a:t>
            </a:r>
            <a:r>
              <a:rPr b="1" lang="cs-CZ" sz="2900" spc="-1" strike="noStrike">
                <a:solidFill>
                  <a:srgbClr val="f3912c"/>
                </a:solidFill>
                <a:latin typeface="Helvetica CE"/>
              </a:rPr>
              <a:t> po skončení projektu</a:t>
            </a:r>
            <a:endParaRPr b="1" lang="en-US" sz="2900" spc="-1" strike="noStrike">
              <a:solidFill>
                <a:srgbClr val="000000"/>
              </a:solidFill>
              <a:latin typeface="Helvetica CE"/>
            </a:endParaRPr>
          </a:p>
        </p:txBody>
      </p:sp>
      <p:sp>
        <p:nvSpPr>
          <p:cNvPr id="561" name=""/>
          <p:cNvSpPr txBox="1"/>
          <p:nvPr/>
        </p:nvSpPr>
        <p:spPr>
          <a:xfrm>
            <a:off x="1329840" y="2171520"/>
            <a:ext cx="6458040" cy="3300120"/>
          </a:xfrm>
          <a:prstGeom prst="rect">
            <a:avLst/>
          </a:prstGeom>
          <a:noFill/>
          <a:ln w="0">
            <a:noFill/>
          </a:ln>
        </p:spPr>
        <p:txBody>
          <a:bodyPr anchor="ctr">
            <a:normAutofit/>
          </a:bodyPr>
          <a:p>
            <a:pPr lvl="1" marL="828720" indent="-414360" algn="just">
              <a:spcBef>
                <a:spcPts val="499"/>
              </a:spcBef>
              <a:buClr>
                <a:srgbClr val="ffc000"/>
              </a:buClr>
              <a:buFont typeface="Helvetica CE"/>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2000" spc="-1" strike="noStrike">
                <a:solidFill>
                  <a:srgbClr val="ffc000"/>
                </a:solidFill>
                <a:latin typeface="Helvetica CE"/>
              </a:rPr>
              <a:t>Partner bez finančního příspěvku</a:t>
            </a:r>
            <a:endParaRPr b="0" lang="en-US" sz="20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Rozdělení zařízení a spotřebního materiálu</a:t>
            </a:r>
            <a:endParaRPr b="0" lang="en-US" sz="18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Toto zařízení a spotřební materiál nelze převádět partnerům mimo cílový region, pokud se nejedná o podporu cílové skupiny</a:t>
            </a:r>
            <a:endParaRPr b="0" lang="en-US" sz="18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opie převodních listin, darovacích smluv předkládá příjemce se závěrečnou MZ</a:t>
            </a:r>
            <a:endParaRPr b="0" lang="en-US" sz="1800" spc="-1" strike="noStrike">
              <a:solidFill>
                <a:srgbClr val="000000"/>
              </a:solidFill>
              <a:latin typeface="Helvetica CE"/>
            </a:endParaRPr>
          </a:p>
          <a:p>
            <a:pPr lvl="1" marL="828720" indent="-414360" algn="just">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Helvetica CE"/>
            </a:endParaRPr>
          </a:p>
          <a:p>
            <a:pPr lvl="1" marL="828720" indent="-414360" algn="just">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cs-CZ" sz="2000" spc="-1" strike="noStrike">
                <a:solidFill>
                  <a:srgbClr val="ffc000"/>
                </a:solidFill>
                <a:latin typeface="Helvetica CE"/>
              </a:rPr>
              <a:t>b) Partner s finančním příspěvkem </a:t>
            </a:r>
            <a:endParaRPr b="0" lang="en-US" sz="2000" spc="-1" strike="noStrike">
              <a:solidFill>
                <a:srgbClr val="000000"/>
              </a:solidFill>
              <a:latin typeface="Helvetica CE"/>
            </a:endParaRPr>
          </a:p>
          <a:p>
            <a:pPr lvl="1" marL="828720" indent="-414360" algn="just">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 </a:t>
            </a:r>
            <a:r>
              <a:rPr b="0" lang="cs-CZ" sz="1800" spc="-1" strike="noStrike">
                <a:solidFill>
                  <a:srgbClr val="000000"/>
                </a:solidFill>
                <a:latin typeface="Helvetica CE"/>
              </a:rPr>
              <a:t>Zařízení a spotřební materiál ve vlastnictv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C22B7-16F8-4B07-8061-DFD7BFDBC2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329840" y="2171520"/>
            <a:ext cx="6458040" cy="3173400"/>
          </a:xfrm>
          <a:prstGeom prst="rect">
            <a:avLst/>
          </a:prstGeom>
          <a:noFill/>
          <a:ln w="0">
            <a:noFill/>
          </a:ln>
        </p:spPr>
        <p:txBody>
          <a:bodyPr anchor="t">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600" spc="-1" strike="noStrike">
                <a:solidFill>
                  <a:srgbClr val="ffc000"/>
                </a:solidFill>
                <a:latin typeface="Helvetica CE"/>
              </a:rPr>
              <a:t>Děkuji za pozornost</a:t>
            </a:r>
            <a:endParaRPr b="0" lang="en-US" sz="36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Ing. Marie Kaufnerová</a:t>
            </a:r>
            <a:endParaRPr b="0" lang="en-US" sz="18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arie.kaufnerova@msmt.cz</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02434-07B2-480F-B84E-D0A7994BCE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371600" y="1248840"/>
            <a:ext cx="6283440" cy="567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Změny</a:t>
            </a:r>
            <a:r>
              <a:rPr b="1" lang="cs-CZ" sz="2800" spc="-1" strike="noStrike">
                <a:solidFill>
                  <a:srgbClr val="f39800"/>
                </a:solidFill>
                <a:latin typeface="Helvetica CE"/>
              </a:rPr>
              <a:t> v projektu</a:t>
            </a:r>
            <a:endParaRPr b="1" lang="en-US" sz="2800" spc="-1" strike="noStrike">
              <a:solidFill>
                <a:srgbClr val="000000"/>
              </a:solidFill>
              <a:latin typeface="Helvetica CE"/>
            </a:endParaRPr>
          </a:p>
        </p:txBody>
      </p:sp>
      <p:sp>
        <p:nvSpPr>
          <p:cNvPr id="52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4B1EA-5F20-402A-8A3B-B04D98E339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6" name=""/>
          <p:cNvSpPr txBox="1"/>
          <p:nvPr/>
        </p:nvSpPr>
        <p:spPr>
          <a:xfrm>
            <a:off x="1329840" y="2171520"/>
            <a:ext cx="6458040" cy="3429000"/>
          </a:xfrm>
          <a:prstGeom prst="rect">
            <a:avLst/>
          </a:prstGeom>
          <a:noFill/>
          <a:ln w="0">
            <a:noFill/>
          </a:ln>
        </p:spPr>
        <p:txBody>
          <a:bodyPr anchor="t">
            <a:normAutofit/>
          </a:bodyPr>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Nepodstatné změny</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Neovlivní dosažení cílů projektu a monitorovacích    indikátorů</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Oznamují se v monitorovací zprávě v části č. 10 se zdůvodněním</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99"/>
              </a:spcBef>
              <a:buClr>
                <a:srgbClr val="f398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Podstatné změny</a:t>
            </a:r>
            <a:endParaRPr b="0" lang="en-US" sz="20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Mění charakter a obsah projektu oproti schválené žádosti</a:t>
            </a:r>
            <a:endParaRPr b="0" lang="en-US" sz="1800" spc="-1" strike="noStrike">
              <a:solidFill>
                <a:srgbClr val="000000"/>
              </a:solidFill>
              <a:latin typeface="Helvetica CE"/>
            </a:endParaRPr>
          </a:p>
          <a:p>
            <a:pPr marL="343080" indent="-343080" algn="just">
              <a:spcBef>
                <a:spcPts val="451"/>
              </a:spcBef>
              <a:buClr>
                <a:srgbClr val="000000"/>
              </a:buClr>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plňují právní akt o poskytnutí podpory (dodatek)</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Podléhají schválení</a:t>
            </a:r>
            <a:endParaRPr b="0" lang="en-US" sz="18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329840" y="1071360"/>
            <a:ext cx="645804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Nepodstatné změny</a:t>
            </a:r>
            <a:endParaRPr b="1" lang="en-US" sz="3200" spc="-1" strike="noStrike">
              <a:solidFill>
                <a:srgbClr val="000000"/>
              </a:solidFill>
              <a:latin typeface="Helvetica CE"/>
            </a:endParaRPr>
          </a:p>
        </p:txBody>
      </p:sp>
      <p:sp>
        <p:nvSpPr>
          <p:cNvPr id="528" name=""/>
          <p:cNvSpPr txBox="1"/>
          <p:nvPr/>
        </p:nvSpPr>
        <p:spPr>
          <a:xfrm>
            <a:off x="1329840" y="1952280"/>
            <a:ext cx="6458040" cy="37004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kontaktních údajů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sídla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kontaktní osoby projektu a manažera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harmonogramu realizace (posun KA)</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artnerské smlouvy charakteru nepodstatné změn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názvu subjektu příjem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ve statusu plátce DPH</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statutárního zástupc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řívější ukončení projektu při ukončení všech plánovaných aktivit projektu</a:t>
            </a:r>
            <a:endParaRPr b="0" lang="en-US" sz="1800" spc="-1" strike="noStrike">
              <a:solidFill>
                <a:srgbClr val="000000"/>
              </a:solidFill>
              <a:latin typeface="Helvetica CE"/>
            </a:endParaRPr>
          </a:p>
        </p:txBody>
      </p:sp>
      <p:sp>
        <p:nvSpPr>
          <p:cNvPr id="52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ED10D-0404-41AB-A875-E06935090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329840" y="1028880"/>
            <a:ext cx="6458040" cy="714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Žádost o podstatnou změnu</a:t>
            </a:r>
            <a:endParaRPr b="1" lang="en-US" sz="3200" spc="-1" strike="noStrike">
              <a:solidFill>
                <a:srgbClr val="000000"/>
              </a:solidFill>
              <a:latin typeface="Helvetica CE"/>
            </a:endParaRPr>
          </a:p>
        </p:txBody>
      </p:sp>
      <p:sp>
        <p:nvSpPr>
          <p:cNvPr id="531" name=""/>
          <p:cNvSpPr txBox="1"/>
          <p:nvPr/>
        </p:nvSpPr>
        <p:spPr>
          <a:xfrm>
            <a:off x="1329840" y="1571760"/>
            <a:ext cx="6458040" cy="430056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7030a0"/>
                </a:solidFill>
                <a:latin typeface="Helvetica CE"/>
              </a:rPr>
              <a:t>http://www.msmt.cz/strukturalni-fondy/monitorovaci-zprava-a-jeji-prilohy-platna-od-28-6-2010</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80000"/>
              </a:lnSpc>
              <a:spcAft>
                <a:spcPts val="550"/>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Zasílá se v písemné podobě kontaktní osobě pro projekt</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usí obsahovat popis změny, zdůvodnění, souhlas partnerů, další dokumenty</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39800"/>
                </a:solidFill>
                <a:latin typeface="Helvetica CE"/>
              </a:rPr>
              <a:t>Lhůty:</a:t>
            </a:r>
            <a:endParaRPr b="0" lang="en-US" sz="20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0 pracovních dní na posouzení ze strany MŠMT</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5 pracovních dní na vyrozumění</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Max. 60 kalendářních dnů před koncem projektu! </a:t>
            </a:r>
            <a:endParaRPr b="0" lang="en-US" sz="1800" spc="-1" strike="noStrike">
              <a:solidFill>
                <a:srgbClr val="000000"/>
              </a:solidFill>
              <a:latin typeface="Helvetica CE"/>
            </a:endParaRPr>
          </a:p>
          <a:p>
            <a:pPr marL="343080" indent="-343080" algn="just">
              <a:lnSpc>
                <a:spcPct val="80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oporučujeme konzultovat předem s kontaktní osobou projektu</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Helvetica C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lnSpc>
                <a:spcPct val="93000"/>
              </a:lnSpc>
              <a:spcAft>
                <a:spcPts val="12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9EB05-5C76-4DC7-94D5-66954D678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dstatné změny</a:t>
            </a:r>
            <a:endParaRPr b="1" lang="en-US" sz="3200" spc="-1" strike="noStrike">
              <a:solidFill>
                <a:srgbClr val="000000"/>
              </a:solidFill>
              <a:latin typeface="Helvetica CE"/>
            </a:endParaRPr>
          </a:p>
        </p:txBody>
      </p:sp>
      <p:sp>
        <p:nvSpPr>
          <p:cNvPr id="534" name=""/>
          <p:cNvSpPr txBox="1"/>
          <p:nvPr/>
        </p:nvSpPr>
        <p:spPr>
          <a:xfrm>
            <a:off x="1329840" y="1952640"/>
            <a:ext cx="6458040" cy="3633840"/>
          </a:xfrm>
          <a:prstGeom prst="rect">
            <a:avLst/>
          </a:prstGeom>
          <a:noFill/>
          <a:ln w="0">
            <a:noFill/>
          </a:ln>
        </p:spPr>
        <p:txBody>
          <a:bodyPr anchor="t">
            <a:normAutofit fontScale="91000"/>
          </a:bodyPr>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rávní formy příjemce</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říjemce projektu – např. při transformaci škol</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názvu projektu (ve výjimečných případech)</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týkající se monitorovacích indikátorů</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apojení nového partnera (ve výjimečných případech)</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začátku realizace projek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data ukončení projek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Změna projektového účtu</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dstoupení partnera </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statná změna rozpočtu (kapitola 5.5.2)</a:t>
            </a:r>
            <a:endParaRPr b="0" lang="en-US" sz="1800" spc="-1" strike="noStrike">
              <a:solidFill>
                <a:srgbClr val="000000"/>
              </a:solidFill>
              <a:latin typeface="Helvetica CE"/>
            </a:endParaRPr>
          </a:p>
          <a:p>
            <a:pPr marL="312120" indent="-31212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12120" indent="-31212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cs-CZ" sz="1600" spc="-1" strike="noStrike">
                <a:solidFill>
                  <a:srgbClr val="000000"/>
                </a:solidFill>
                <a:latin typeface="Helvetica CE"/>
              </a:rPr>
              <a:t>V případě pochybností se má za to, že jde o změnu podstatnou</a:t>
            </a:r>
            <a:endParaRPr b="0" lang="en-US" sz="1600" spc="-1" strike="noStrike">
              <a:solidFill>
                <a:srgbClr val="000000"/>
              </a:solidFill>
              <a:latin typeface="Helvetica CE"/>
            </a:endParaRPr>
          </a:p>
          <a:p>
            <a:pPr marL="312120" indent="-312120"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p:txBody>
      </p:sp>
      <p:sp>
        <p:nvSpPr>
          <p:cNvPr id="53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06479-F0F3-4269-99BA-5614CF66E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29840" y="1085760"/>
            <a:ext cx="6458040" cy="6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Změny v </a:t>
            </a:r>
            <a:r>
              <a:rPr b="1" lang="cs-CZ" sz="2800" spc="-1" strike="noStrike">
                <a:solidFill>
                  <a:srgbClr val="f39800"/>
                </a:solidFill>
                <a:latin typeface="Helvetica CE"/>
              </a:rPr>
              <a:t>rozpočtu</a:t>
            </a:r>
            <a:endParaRPr b="1" lang="en-US" sz="2800" spc="-1" strike="noStrike">
              <a:solidFill>
                <a:srgbClr val="000000"/>
              </a:solidFill>
              <a:latin typeface="Helvetica CE"/>
            </a:endParaRPr>
          </a:p>
        </p:txBody>
      </p:sp>
      <p:sp>
        <p:nvSpPr>
          <p:cNvPr id="537" name=""/>
          <p:cNvSpPr txBox="1"/>
          <p:nvPr/>
        </p:nvSpPr>
        <p:spPr>
          <a:xfrm>
            <a:off x="1329840" y="1757160"/>
            <a:ext cx="6458040" cy="40971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odstatné a nepodstatné změny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ějí narušit charakter a hlavní záměr projekt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 projekt musejí být nezbytné a efektiv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Tyto změny nesmí navýšit celkový rozpoče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navýšit kapitoly nebo položky krácené Výběrovou komisí </a:t>
            </a:r>
            <a:endParaRPr b="0" lang="en-US" sz="1800" spc="-1" strike="noStrike">
              <a:solidFill>
                <a:srgbClr val="000000"/>
              </a:solidFill>
              <a:latin typeface="Helvetica CE"/>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dojít k překročení procentních limitů pro jednotlivé kapitoly ( </a:t>
            </a:r>
            <a:r>
              <a:rPr b="0" lang="cs-CZ" sz="1600" spc="-1" strike="noStrike">
                <a:solidFill>
                  <a:srgbClr val="000000"/>
                </a:solidFill>
                <a:latin typeface="Helvetica CE"/>
              </a:rPr>
              <a:t>Zařízení a vybavení – 25 %; Nákup služeb - 49%; Přímá podpora -  20 % z celkových způsobilých výdajů)</a:t>
            </a:r>
            <a:endParaRPr b="0" lang="en-US" sz="16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smí způsobit začátek nové nebo zrušení stávající klíčové aktivity!</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usí být zdůvodněny a doloženy novým přepracovaným rozpočtem</a:t>
            </a:r>
            <a:endParaRPr b="0" lang="en-US" sz="1800" spc="-1" strike="noStrike">
              <a:solidFill>
                <a:srgbClr val="000000"/>
              </a:solidFill>
              <a:latin typeface="Helvetica CE"/>
            </a:endParaRPr>
          </a:p>
        </p:txBody>
      </p:sp>
      <p:sp>
        <p:nvSpPr>
          <p:cNvPr id="5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C02F1-DEB6-485F-939A-DAD84695C1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Nepodstatné změny v rozpočtu</a:t>
            </a:r>
            <a:endParaRPr b="1" lang="en-US" sz="3200" spc="-1" strike="noStrike">
              <a:solidFill>
                <a:srgbClr val="000000"/>
              </a:solidFill>
              <a:latin typeface="Helvetica CE"/>
            </a:endParaRPr>
          </a:p>
        </p:txBody>
      </p:sp>
      <p:sp>
        <p:nvSpPr>
          <p:cNvPr id="540"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prostředků mezi položkami uvnitř jednotlivých kapitol</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finančních prostředků mezi jednotlivými kapitolami </a:t>
            </a:r>
            <a:r>
              <a:rPr b="1" lang="cs-CZ" sz="1800" spc="-1" strike="noStrike">
                <a:solidFill>
                  <a:srgbClr val="000000"/>
                </a:solidFill>
                <a:latin typeface="Calibri"/>
              </a:rPr>
              <a:t>menší </a:t>
            </a:r>
            <a:r>
              <a:rPr b="0" lang="cs-CZ" sz="1800" spc="-1" strike="noStrike">
                <a:solidFill>
                  <a:srgbClr val="000000"/>
                </a:solidFill>
                <a:latin typeface="Calibri"/>
              </a:rPr>
              <a:t>než </a:t>
            </a:r>
            <a:r>
              <a:rPr b="0" lang="cs-CZ" sz="1800" spc="-1" strike="noStrike">
                <a:solidFill>
                  <a:srgbClr val="000000"/>
                </a:solidFill>
                <a:latin typeface="Helvetica CE"/>
              </a:rPr>
              <a:t>15% objemu způsobilých výdajů kapitoly platného rozpočtu ze kterého jsou finanční prostředky převáděny</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ytvoření nové položky nebo zrušení položky v rozpočtu</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C23C8-030A-4C5B-B0D3-6085221A66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odstatné změny v rozpočtu</a:t>
            </a:r>
            <a:endParaRPr b="1" lang="en-US" sz="3200" spc="-1" strike="noStrike">
              <a:solidFill>
                <a:srgbClr val="000000"/>
              </a:solidFill>
              <a:latin typeface="Helvetica CE"/>
            </a:endParaRPr>
          </a:p>
        </p:txBody>
      </p:sp>
      <p:sp>
        <p:nvSpPr>
          <p:cNvPr id="543" name=""/>
          <p:cNvSpPr txBox="1"/>
          <p:nvPr/>
        </p:nvSpPr>
        <p:spPr>
          <a:xfrm>
            <a:off x="1329840" y="2228400"/>
            <a:ext cx="6458040" cy="3116520"/>
          </a:xfrm>
          <a:prstGeom prst="rect">
            <a:avLst/>
          </a:prstGeom>
          <a:noFill/>
          <a:ln w="0">
            <a:noFill/>
          </a:ln>
        </p:spPr>
        <p:txBody>
          <a:bodyPr anchor="t">
            <a:normAutofit/>
          </a:bodyPr>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esun prostředků mezi kapitolami přesahující 15 % objemu způsobilých výdajů kapitoly, ze které  jsou prostředky převáděny</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prostředků kapitoly Osobní náklady o více než 15 %</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položek Křížového financování</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avýšení či snížení zálohové platby</a:t>
            </a:r>
            <a:endParaRPr b="0" lang="en-US" sz="1800" spc="-1" strike="noStrike">
              <a:solidFill>
                <a:srgbClr val="000000"/>
              </a:solidFill>
              <a:latin typeface="Helvetica CE"/>
            </a:endParaRPr>
          </a:p>
          <a:p>
            <a:pPr lvl="1" marL="414360" indent="-285840" algn="just">
              <a:lnSpc>
                <a:spcPct val="93000"/>
              </a:lnSpc>
              <a:spcAft>
                <a:spcPts val="1037"/>
              </a:spcAft>
              <a:buClr>
                <a:srgbClr val="00000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400" spc="-1" strike="noStrike">
                <a:solidFill>
                  <a:srgbClr val="000000"/>
                </a:solidFill>
                <a:latin typeface="Helvetica CE"/>
              </a:rPr>
              <a:t>U organizací se stanovenými ukazateli/limity mzdové regulace jakékoliv změny rozpočtu v kapitole 1 Osobní náklady</a:t>
            </a:r>
            <a:endParaRPr b="0" lang="en-US" sz="1400" spc="-1" strike="noStrike">
              <a:solidFill>
                <a:srgbClr val="000000"/>
              </a:solidFill>
              <a:latin typeface="Helvetica CE"/>
            </a:endParaRPr>
          </a:p>
        </p:txBody>
      </p:sp>
      <p:sp>
        <p:nvSpPr>
          <p:cNvPr id="54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FD2B2-8C96-41B4-99EF-267448E49C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Principy a podmínky partnerství</a:t>
            </a:r>
            <a:endParaRPr b="1" lang="en-US" sz="3200" spc="-1" strike="noStrike">
              <a:solidFill>
                <a:srgbClr val="000000"/>
              </a:solidFill>
              <a:latin typeface="Helvetica CE"/>
            </a:endParaRPr>
          </a:p>
        </p:txBody>
      </p:sp>
      <p:sp>
        <p:nvSpPr>
          <p:cNvPr id="546" name=""/>
          <p:cNvSpPr txBox="1"/>
          <p:nvPr/>
        </p:nvSpPr>
        <p:spPr>
          <a:xfrm>
            <a:off x="1329840" y="2171520"/>
            <a:ext cx="6458040" cy="3538440"/>
          </a:xfrm>
          <a:prstGeom prst="rect">
            <a:avLst/>
          </a:prstGeom>
          <a:noFill/>
          <a:ln w="0">
            <a:noFill/>
          </a:ln>
        </p:spPr>
        <p:txBody>
          <a:bodyPr anchor="t">
            <a:normAutofit/>
          </a:bodyPr>
          <a:p>
            <a:pPr marL="343080" indent="-343080" algn="just">
              <a:lnSpc>
                <a:spcPct val="93000"/>
              </a:lnSpc>
              <a:spcAft>
                <a:spcPts val="1287"/>
              </a:spcAft>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600" spc="-1" strike="noStrike">
                <a:solidFill>
                  <a:srgbClr val="000000"/>
                </a:solidFill>
                <a:latin typeface="Helvetica CE"/>
              </a:rPr>
              <a:t>Partneři se společně podílejí na přípravě a realizaci projektu ve fázi zpracování projektové žádosti, ve fázi jeho realizace i ve fázi ukončení projektu. Partneři se podílejí rovněž na zajištění udržitelnosti projektu, jsou-li k tomu zavázáni partnerskou smlouvou. </a:t>
            </a:r>
            <a:endParaRPr b="0" lang="en-US" sz="16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zastupiteln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Opodstatněnos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íjemce realizuje hlavní, podstatnou část aktivit</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Realizované projekty mají neziskový charakter</a:t>
            </a:r>
            <a:endParaRPr b="0" lang="en-US" sz="1800" spc="-1" strike="noStrike">
              <a:solidFill>
                <a:srgbClr val="000000"/>
              </a:solidFill>
              <a:latin typeface="Helvetica CE"/>
            </a:endParaRPr>
          </a:p>
          <a:p>
            <a:pPr marL="343080" indent="-343080" algn="just">
              <a:lnSpc>
                <a:spcPct val="93000"/>
              </a:lnSpc>
              <a:spcAft>
                <a:spcPts val="12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1" lang="cs-CZ" sz="1800" spc="-1" strike="noStrike">
                <a:solidFill>
                  <a:srgbClr val="000000"/>
                </a:solidFill>
                <a:latin typeface="Helvetica CE"/>
              </a:rPr>
              <a:t>Partner nesmí být dodavatelem!</a:t>
            </a:r>
            <a:endParaRPr b="0" lang="en-US" sz="1800" spc="-1" strike="noStrike">
              <a:solidFill>
                <a:srgbClr val="000000"/>
              </a:solidFill>
              <a:latin typeface="Helvetica CE"/>
            </a:endParaRPr>
          </a:p>
          <a:p>
            <a:pPr marL="343080" indent="-343080" algn="just">
              <a:lnSpc>
                <a:spcPct val="93000"/>
              </a:lnSpc>
              <a:spcAft>
                <a:spcPts val="128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4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7E7C4-37E0-4652-9744-81FD8B3542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Marie Kaufnerová</cp:lastModifiedBy>
  <dcterms:modified xsi:type="dcterms:W3CDTF">2010-09-16T15:23:31Z</dcterms:modified>
  <cp:revision>198</cp:revision>
  <dc:subject/>
  <dc:title>Titulní strana – Titulek</dc:title>
</cp:coreProperties>
</file>